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F5F-F0A0-4CC8-B884-0EE27F29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38E-D6C1-47E8-B32E-EE9051CB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DF6-4D8A-4D04-ABA2-1DB86DA1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8677-87D9-46F7-85F6-6E127D77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0D9-4CEA-451C-8080-0D73D88B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232-BC4F-4B2A-A5E6-79C8B412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986-375C-4649-9FB2-D1ED6A4C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29B0-B68C-4DE8-901D-9E736AF5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D33-4F2E-43C1-B531-9F63B005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24A-FB9A-4DE5-9DB5-F7BBCE21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9917-CBF3-4B29-AB61-A9908F8C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A98-3411-4363-9E93-33A1634B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5314-0124-4F8E-887F-AE421B9DAFB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76212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PowerPoint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簡易測驗題產生系統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Version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uthor: Hsuan-tien 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36576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66"/>
                </a:solidFill>
                <a:latin typeface="Times New Roman"/>
                <a:ea typeface="標楷體"/>
              </a:rPr>
              <a:t>開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3200400"/>
            <a:ext cx="5029200" cy="175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02:09:58Z</dcterms:created>
  <dc:creator>A</dc:creator>
  <dc:description/>
  <dc:language>en-US</dc:language>
  <cp:lastModifiedBy>A</cp:lastModifiedBy>
  <dcterms:modified xsi:type="dcterms:W3CDTF">2001-11-14T07:12:12Z</dcterms:modified>
  <cp:revision>178</cp:revision>
  <dc:subject/>
  <dc:title>PowerPoint 簡報</dc:title>
</cp:coreProperties>
</file>